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668-4C6A-4F18-B3B6-6854285B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68-FA2D-49F5-9D8E-8BF71D7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AD9-66E7-449E-A0A8-6D1DF68A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00B-3473-49EC-AC3B-5661831B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E8E-0F07-4229-AB68-2A5D08F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E61-C273-4AB4-B526-A98A50F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891-193F-42B2-9DE1-AA908001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D3E-0667-49CD-86E1-AC583AA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DCE-D8D0-4EEB-ABF9-AD06B14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A88-EF44-4E76-842C-1A30170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146-2365-49E2-9927-7CAF92D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E60-A1E1-482F-B99C-CB70D59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5FF-CAEB-41AB-AC46-6739FB40AB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1108080" y="773280"/>
            <a:ext cx="8512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270000" y="376200"/>
            <a:ext cx="4862520" cy="5913360"/>
          </a:xfrm>
          <a:prstGeom prst="rect">
            <a:avLst/>
          </a:prstGeom>
          <a:ln w="0">
            <a:noFill/>
          </a:ln>
        </p:spPr>
      </p:pic>
      <p:sp>
        <p:nvSpPr>
          <p:cNvPr id="43" name="CuadroTexto 1"/>
          <p:cNvSpPr/>
          <p:nvPr/>
        </p:nvSpPr>
        <p:spPr>
          <a:xfrm>
            <a:off x="8358120" y="6103800"/>
            <a:ext cx="34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los Gamarra Marcos 1ªA B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2"/>
          <p:cNvSpPr/>
          <p:nvPr/>
        </p:nvSpPr>
        <p:spPr>
          <a:xfrm>
            <a:off x="5364000" y="1081080"/>
            <a:ext cx="6465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ASTROBIOLOGÍ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EXTREMÓFILO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249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Isla Decepción (la Antártida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CuadroTexto 2"/>
          <p:cNvSpPr/>
          <p:nvPr/>
        </p:nvSpPr>
        <p:spPr>
          <a:xfrm>
            <a:off x="492120" y="1339920"/>
            <a:ext cx="699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s un cono volcánico, los glaciares están cubiertos de ceni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ovimiento sísmico continuo debido al estar encima de una zona con actividad m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o a altas temperaturas y clima fr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xtremófilos capaces de aguantar altas temperaturas y otros temperaturas muy bajas: se demostró qu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emperatura del agua no afecta en la formación de la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3" descr=""/>
          <p:cNvPicPr/>
          <p:nvPr/>
        </p:nvPicPr>
        <p:blipFill>
          <a:blip r:embed="rId1"/>
          <a:stretch/>
        </p:blipFill>
        <p:spPr>
          <a:xfrm>
            <a:off x="7475400" y="1209600"/>
            <a:ext cx="4599000" cy="2911680"/>
          </a:xfrm>
          <a:prstGeom prst="rect">
            <a:avLst/>
          </a:prstGeom>
          <a:ln w="0">
            <a:noFill/>
          </a:ln>
        </p:spPr>
      </p:pic>
      <p:pic>
        <p:nvPicPr>
          <p:cNvPr id="67" name="Imagen 4" descr=""/>
          <p:cNvPicPr/>
          <p:nvPr/>
        </p:nvPicPr>
        <p:blipFill>
          <a:blip r:embed="rId2"/>
          <a:stretch/>
        </p:blipFill>
        <p:spPr>
          <a:xfrm>
            <a:off x="7485120" y="4192560"/>
            <a:ext cx="4589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Río Tinto (España, Huelva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CuadroTexto 3"/>
          <p:cNvSpPr/>
          <p:nvPr/>
        </p:nvSpPr>
        <p:spPr>
          <a:xfrm>
            <a:off x="838080" y="1160640"/>
            <a:ext cx="951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color rojiz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pH muy ácido, alta concentración de metales pes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xtremófilos quimiolitótrofos capaces de obtener energía oxidando materia inorgá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lugar de interés de la NASA ya que sus condiciones ambientales podrían ser similares a la de M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n 2" descr=""/>
          <p:cNvPicPr/>
          <p:nvPr/>
        </p:nvPicPr>
        <p:blipFill>
          <a:blip r:embed="rId1"/>
          <a:stretch/>
        </p:blipFill>
        <p:spPr>
          <a:xfrm>
            <a:off x="838080" y="3745080"/>
            <a:ext cx="4240440" cy="2836800"/>
          </a:xfrm>
          <a:prstGeom prst="rect">
            <a:avLst/>
          </a:prstGeom>
          <a:ln w="0">
            <a:noFill/>
          </a:ln>
        </p:spPr>
      </p:pic>
      <p:pic>
        <p:nvPicPr>
          <p:cNvPr id="71" name="Imagen 4" descr=""/>
          <p:cNvPicPr/>
          <p:nvPr/>
        </p:nvPicPr>
        <p:blipFill>
          <a:blip r:embed="rId2"/>
          <a:stretch/>
        </p:blipFill>
        <p:spPr>
          <a:xfrm>
            <a:off x="5597640" y="3695760"/>
            <a:ext cx="39718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RÍO TIN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Imagen 2" descr=""/>
          <p:cNvPicPr/>
          <p:nvPr/>
        </p:nvPicPr>
        <p:blipFill>
          <a:blip r:embed="rId1"/>
          <a:stretch/>
        </p:blipFill>
        <p:spPr>
          <a:xfrm>
            <a:off x="465120" y="1066680"/>
            <a:ext cx="5807160" cy="5289840"/>
          </a:xfrm>
          <a:prstGeom prst="rect">
            <a:avLst/>
          </a:prstGeom>
          <a:ln w="0">
            <a:noFill/>
          </a:ln>
        </p:spPr>
      </p:pic>
      <p:sp>
        <p:nvSpPr>
          <p:cNvPr id="74" name="CuadroTexto 3"/>
          <p:cNvSpPr/>
          <p:nvPr/>
        </p:nvSpPr>
        <p:spPr>
          <a:xfrm>
            <a:off x="6670800" y="2022480"/>
            <a:ext cx="53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Nacimiento e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eña de Hierro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lamada así por tener la mayor concentración de sulfuros metálicos del mun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Recorre 100km hasta su desembocadura en el océano Atlántico junto con el Odi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2320" y="-9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2.Extremófilo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CuadroTexto 2"/>
          <p:cNvSpPr/>
          <p:nvPr/>
        </p:nvSpPr>
        <p:spPr>
          <a:xfrm>
            <a:off x="538200" y="912960"/>
            <a:ext cx="115250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extremófilos que habitan son de dos tipos dependiendo de su localiz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los que habitan en la cuenca del río deben ajustar sus sistemas de control de pH en sus membr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s veces al día debido a que la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rea baja aumenta la acidez del pH y con marea alta hay pH neut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organismos que habitan en el curso alto de Río Tinto están sometidos todo el rato a una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lta acid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xisten tres tipos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cterias quimiolitótrofas (comen piedras)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idithiobacillus ferrooxidans(1) y Leptospirillum ferrooxidans(2).: capaces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oxidar 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idiphilium sp(3).: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duce la cantidad de hierro oxid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as bacterias son las responsables de la extrema acidez y elevada concentración de minerales en el río por su metabolismo y no por la actividad de la mina y sus residu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errar llave 3"/>
          <p:cNvSpPr/>
          <p:nvPr/>
        </p:nvSpPr>
        <p:spPr>
          <a:xfrm>
            <a:off x="10247400" y="2492280"/>
            <a:ext cx="360360" cy="5670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567000"/>
              <a:gd name="textAreaBottom" fmla="*/ 557640 h 5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2"/>
                  <a:pt x="10800" y="1144"/>
                </a:cubicBezTo>
                <a:lnTo>
                  <a:pt x="10800" y="9656"/>
                </a:lnTo>
                <a:cubicBezTo>
                  <a:pt x="10800" y="10228"/>
                  <a:pt x="16200" y="10800"/>
                  <a:pt x="21600" y="10800"/>
                </a:cubicBezTo>
                <a:cubicBezTo>
                  <a:pt x="16200" y="10800"/>
                  <a:pt x="10800" y="11372"/>
                  <a:pt x="10800" y="11944"/>
                </a:cubicBezTo>
                <a:lnTo>
                  <a:pt x="10800" y="20456"/>
                </a:lnTo>
                <a:cubicBezTo>
                  <a:pt x="10800" y="2102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4"/>
          <p:cNvSpPr/>
          <p:nvPr/>
        </p:nvSpPr>
        <p:spPr>
          <a:xfrm>
            <a:off x="10609200" y="2289240"/>
            <a:ext cx="11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D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HIE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n 5" descr=""/>
          <p:cNvPicPr/>
          <p:nvPr/>
        </p:nvPicPr>
        <p:blipFill>
          <a:blip r:embed="rId1"/>
          <a:stretch/>
        </p:blipFill>
        <p:spPr>
          <a:xfrm>
            <a:off x="652320" y="4098960"/>
            <a:ext cx="288936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Imagen 6" descr=""/>
          <p:cNvPicPr/>
          <p:nvPr/>
        </p:nvPicPr>
        <p:blipFill>
          <a:blip r:embed="rId2"/>
          <a:stretch/>
        </p:blipFill>
        <p:spPr>
          <a:xfrm>
            <a:off x="3935520" y="4140360"/>
            <a:ext cx="3162240" cy="2119320"/>
          </a:xfrm>
          <a:prstGeom prst="rect">
            <a:avLst/>
          </a:prstGeom>
          <a:ln w="0">
            <a:noFill/>
          </a:ln>
        </p:spPr>
      </p:pic>
      <p:pic>
        <p:nvPicPr>
          <p:cNvPr id="81" name="Imagen 7" descr=""/>
          <p:cNvPicPr/>
          <p:nvPr/>
        </p:nvPicPr>
        <p:blipFill>
          <a:blip r:embed="rId3"/>
          <a:stretch/>
        </p:blipFill>
        <p:spPr>
          <a:xfrm>
            <a:off x="7682040" y="4044960"/>
            <a:ext cx="3085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49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3.Análogo terrestre de Marte*(1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CuadroTexto 2"/>
          <p:cNvSpPr/>
          <p:nvPr/>
        </p:nvSpPr>
        <p:spPr>
          <a:xfrm>
            <a:off x="838080" y="933480"/>
            <a:ext cx="1121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Las primeras misiones enviadas a Marte durante la década de los setenta intentaron buscar señales de vida en el planeta rojo, el resultado fue nulo: la 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alta radiación de UV, baja temperatura, condiciones oxidantes y la ausencia de agua líqui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 Las pruebas encontradas hicieron perder el interés por M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¿Por qué nos ha vuelto a interes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Una nueva rama de la biología: la extremofi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Posibles indicios de vida en el meteorito marciano ALH4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Presencia de hematites y existencia de agua-hielo en regiones pola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3" descr=""/>
          <p:cNvPicPr/>
          <p:nvPr/>
        </p:nvPicPr>
        <p:blipFill>
          <a:blip r:embed="rId1"/>
          <a:stretch/>
        </p:blipFill>
        <p:spPr>
          <a:xfrm>
            <a:off x="6850080" y="3959280"/>
            <a:ext cx="5037120" cy="2649600"/>
          </a:xfrm>
          <a:prstGeom prst="rect">
            <a:avLst/>
          </a:prstGeom>
          <a:ln w="0">
            <a:noFill/>
          </a:ln>
        </p:spPr>
      </p:pic>
      <p:sp>
        <p:nvSpPr>
          <p:cNvPr id="85" name="CuadroTexto 4"/>
          <p:cNvSpPr/>
          <p:nvPr/>
        </p:nvSpPr>
        <p:spPr>
          <a:xfrm>
            <a:off x="5421240" y="6246720"/>
            <a:ext cx="12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Vi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06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3.Análogo terrestre de Marte*(2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CuadroTexto 3"/>
          <p:cNvSpPr/>
          <p:nvPr/>
        </p:nvSpPr>
        <p:spPr>
          <a:xfrm>
            <a:off x="747720" y="1158840"/>
            <a:ext cx="11229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isiones com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a Spirit y Opportunit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mostraron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un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asado húmedo en Marte y ácid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l encontrar jarosit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un sulfato de hierro que también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e encuentra en Río Tinto debido a la actividad microbiana.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jarosita también nos indica que se formó en presencia de agua, con lo cual se llega a la conclusión de que hubo y tal vez haya unas condiciones idóneas para la formación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Estos datos son compatibles con la existencia pasada o presente de vida en Mar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nemos dos soluciones a esa pregun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-Enviar una misión tripulada a Marte la cual aún no es posible por los problemas técnicos y de segur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-Estudiar análogos terrestres para dar la posibilidad de la existencia de vida en las  condiciones marcia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Cabe mencionar que hay grandes diferencias de Marte con respecto a Río Tinto como la baja temperatura de la superficie marciana y su reducida presión atmosférica que dificulta la creación de agua líquida en la superfi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1" descr=""/>
          <p:cNvPicPr/>
          <p:nvPr/>
        </p:nvPicPr>
        <p:blipFill>
          <a:blip r:embed="rId1"/>
          <a:stretch/>
        </p:blipFill>
        <p:spPr>
          <a:xfrm>
            <a:off x="1046160" y="176040"/>
            <a:ext cx="97124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Imagen 2" descr=""/>
          <p:cNvPicPr/>
          <p:nvPr/>
        </p:nvPicPr>
        <p:blipFill>
          <a:blip r:embed="rId2"/>
          <a:stretch/>
        </p:blipFill>
        <p:spPr>
          <a:xfrm>
            <a:off x="104616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Imagen 3" descr=""/>
          <p:cNvPicPr/>
          <p:nvPr/>
        </p:nvPicPr>
        <p:blipFill>
          <a:blip r:embed="rId3"/>
          <a:stretch/>
        </p:blipFill>
        <p:spPr>
          <a:xfrm>
            <a:off x="3903840" y="426564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Imagen 4" descr=""/>
          <p:cNvPicPr/>
          <p:nvPr/>
        </p:nvPicPr>
        <p:blipFill>
          <a:blip r:embed="rId4"/>
          <a:stretch/>
        </p:blipFill>
        <p:spPr>
          <a:xfrm>
            <a:off x="7361280" y="4352760"/>
            <a:ext cx="3397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CuadroTexto 1"/>
          <p:cNvSpPr/>
          <p:nvPr/>
        </p:nvSpPr>
        <p:spPr>
          <a:xfrm>
            <a:off x="1055520" y="1584360"/>
            <a:ext cx="960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La astrobi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Los ambientes más extr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Río t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Astrobiología: universo y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CuadroTexto 2"/>
          <p:cNvSpPr/>
          <p:nvPr/>
        </p:nvSpPr>
        <p:spPr>
          <a:xfrm>
            <a:off x="939960" y="2201760"/>
            <a:ext cx="1013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trobiología: ciencia que estudia el origen, evolución y distribución de la vida en el unive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disciplinas científicas incluidas son: astrofísica, ciencias planetarias y atmosféricas, geología, química, biología molecular y evolu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Biólogos, geólogos, químicos, astrofísicos, matemáticos e ingeni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5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2.Origen y evolución de la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CuadroTexto 2"/>
          <p:cNvSpPr/>
          <p:nvPr/>
        </p:nvSpPr>
        <p:spPr>
          <a:xfrm>
            <a:off x="838080" y="927000"/>
            <a:ext cx="1028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Tierra: único lugar que sabemos que hay v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saber como surge la vida hay que saber el proceso de organización de materia de los seres viv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Generación espontánea o abiogénesis (Aristóteles): de materia inerte surge seres v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Biogénesis: de seres vivos surgen seres vivos (Louis Paste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tualid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Abajo-arriba (síntesis prebiótica): la vida se origina de materia inanimada de un proceso de evolución quím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Arriba-abajo: estudio genético de los organismos actuales para averiguar las características de organismo ancestrales. (estudio de los restos, entorno y actividad vital de organism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esto se llega a la conclusión de que todos los seres vivos tenemos un ancestro común: LUCA (LAST UNIVERSAL COMMON ANCESTOR): microorganismo que se relacionaba, metabolismo y autoreplicación. Las investigaciones actuales tratan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veriguar el proceso desde la evolución molecular hasta nuestro ancestro comú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3.Los límites de la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CuadroTexto 2"/>
          <p:cNvSpPr/>
          <p:nvPr/>
        </p:nvSpPr>
        <p:spPr>
          <a:xfrm>
            <a:off x="965160" y="1531800"/>
            <a:ext cx="10715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strobiólogos intentan averiguar la evolución de la vida para saber la evolución de la biosfera terrestre y los posibles límites para la vida en función del medio circundante para hallar la posibilidad de análogos en otros planet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menzó a estudiar ambientes extremos de la Tierra ( para posibles análogos en Marte) y se encontraron microorganismos capaces de aguantar altas temperaturas, presiones, alta acidez, salinidad o radiación: EXTREMÓF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4.¿Cómo buscar vida en otros lugares del universo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CuadroTexto 2"/>
          <p:cNvSpPr/>
          <p:nvPr/>
        </p:nvSpPr>
        <p:spPr>
          <a:xfrm>
            <a:off x="763560" y="2021040"/>
            <a:ext cx="1066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udiar las moléculas en el medio interestelar, circunestelar (espacios que hay entre estrellas y galaxias) y en zonas donde se forman estrel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-estudiar la química del universo observando la formación de moléculas de elementos (agua, amoníaco, moléculas prebiótic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-estudiar la formación de estrellas y discos protoplanet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-búsqueda de planetas extrasolares potencialmente habit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-estudiar los sistemas planetarios para conocer las condiciones astronómicas y geofísicas que hicieron posible la vida en nuestro plane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6-determinar la tecnología que habrá que usar en las misiones planetarias para que sean capaces de detectar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2.Ambientes extremo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CuadroTexto 2"/>
          <p:cNvSpPr/>
          <p:nvPr/>
        </p:nvSpPr>
        <p:spPr>
          <a:xfrm>
            <a:off x="838080" y="1690560"/>
            <a:ext cx="1067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continuación, daremos a conocer 4 lugares de la Tierra con ciertas condiciones adversas a las requeridas para la creación de seres vivos pero aún así podemos encontrar extremófi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estos microorganismo estas condiciones son beneficiosas en su desarrollo. Esto nos hac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udar de los límites de habitabilidad de un amb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Desierto de Atacama (Chile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CuadroTexto 2"/>
          <p:cNvSpPr/>
          <p:nvPr/>
        </p:nvSpPr>
        <p:spPr>
          <a:xfrm>
            <a:off x="838080" y="1262160"/>
            <a:ext cx="1081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ugar más seco del mu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ares, geiseres y minas de co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iertas zonas de este desierto son fértiles debido a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manchaca (bruma marina)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 va cargada de sal que acaba depositándose favoreciendo el desarrollo de ciertos extremóf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os extremófilos son capaces de soportar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casez de agua, la alta radiación y cambios extremos de la tempera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3" descr=""/>
          <p:cNvPicPr/>
          <p:nvPr/>
        </p:nvPicPr>
        <p:blipFill>
          <a:blip r:embed="rId1"/>
          <a:stretch/>
        </p:blipFill>
        <p:spPr>
          <a:xfrm>
            <a:off x="2316240" y="3940200"/>
            <a:ext cx="74199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Chott El Djerid (Desierto del Sahara, Túnez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750960" y="1484280"/>
            <a:ext cx="106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Desierto de halita (s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ayor superficie salina del Sah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cosistema anaerobio, los extremófilos que habitan viven bajo tierra sin presencia de oxígeno, desprenden cantidades de metano y ácido sulfhídrico al 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1"/>
          <a:stretch/>
        </p:blipFill>
        <p:spPr>
          <a:xfrm>
            <a:off x="7012080" y="3108240"/>
            <a:ext cx="4595760" cy="3448080"/>
          </a:xfrm>
          <a:prstGeom prst="rect">
            <a:avLst/>
          </a:prstGeom>
          <a:ln w="0">
            <a:noFill/>
          </a:ln>
        </p:spPr>
      </p:pic>
      <p:pic>
        <p:nvPicPr>
          <p:cNvPr id="63" name="Imagen 1" descr=""/>
          <p:cNvPicPr/>
          <p:nvPr/>
        </p:nvPicPr>
        <p:blipFill>
          <a:blip r:embed="rId2"/>
          <a:stretch/>
        </p:blipFill>
        <p:spPr>
          <a:xfrm>
            <a:off x="1068480" y="3108240"/>
            <a:ext cx="518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06:53:16Z</dcterms:created>
  <dc:creator>Carlos</dc:creator>
  <dc:description/>
  <dc:language>en-US</dc:language>
  <cp:lastModifiedBy>Carlos</cp:lastModifiedBy>
  <dcterms:modified xsi:type="dcterms:W3CDTF">2016-01-11T22:30:39Z</dcterms:modified>
  <cp:revision>70</cp:revision>
  <dc:subject/>
  <dc:title>Presentación de PowerPoint</dc:title>
</cp:coreProperties>
</file>